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93F-CACC-4523-87C9-07AC5ACF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DCB-7B01-41F7-93F2-3D995B0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62E-86E0-4F01-935F-6D046D66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6BE-DE66-4558-B035-583B78BB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41DE-9A3E-4479-811A-3ECA3DC5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801-EFF1-4D87-A6B1-92916C9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A2DB-C27A-4428-B310-9BA32421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B3C-CE8A-4A92-9218-001B072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823A-60F7-4375-B04A-315D22EB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7D7A-AEBA-489F-9F70-64D2A0C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188-426D-470F-B669-5792B39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15B-8030-4AB4-81ED-5320D7A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21A4-8154-4E7D-9F9E-B37F24A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4D1A-8C37-4376-933D-0B3B80E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D955-7B3B-4EA4-A753-945C210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2AE-AA9C-4E05-9604-13A56D58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3A05-0D76-46F4-96C4-62FCBA15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858-D238-4304-B995-30AA09C5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4FF-34E8-452A-8F1E-E4A1DA5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8E9-F766-4B9C-88C3-B6B96AD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558-6CA7-498E-A61F-DCDAA9E2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446-2C74-4D99-9AFD-0E95B3E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5BC-A4F9-45A2-BC20-75AB9B4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D40-D70E-44BF-BD24-39A13D8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0B6-2822-4EC9-BE41-2D63D593C6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EE3-4A89-4B3D-B50D-293E639CAC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Cell_membrane_detailed_diagram.sv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Cell Structure and Fun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Ribosom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te For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rotein Synthesi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Enzyme Synthe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ibosomes are made in 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914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R/Golg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ie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hanne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nal membran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olecules intracellularly (inside the ce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lattened sa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ckag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anspor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olecules in the 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29280" y="1119240"/>
            <a:ext cx="4686120" cy="26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29280" y="3962520"/>
            <a:ext cx="46098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Centrosome and Centriol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ntriole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cylindrical structure used in cell 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ny Centriol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m one centros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 of Centrosome/Centromere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sed in cell division  Eukary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centrosome"/>
          <p:cNvPicPr/>
          <p:nvPr/>
        </p:nvPicPr>
        <p:blipFill>
          <a:blip r:embed="rId1"/>
          <a:stretch/>
        </p:blipFill>
        <p:spPr>
          <a:xfrm>
            <a:off x="5105520" y="1447920"/>
            <a:ext cx="2895480" cy="213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53080" y="2743200"/>
            <a:ext cx="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2895480"/>
            <a:ext cx="609840" cy="221004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ysos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pecial vesicle with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gestive enzym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at helps break down materials in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5106" r="0" b="0"/>
          <a:stretch/>
        </p:blipFill>
        <p:spPr>
          <a:xfrm>
            <a:off x="990720" y="2666880"/>
            <a:ext cx="5638680" cy="3054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191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31240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Vacuole/Cell W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19360" y="11426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s of the Vacuo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age for wastes, food and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cuoles take up most of the space in a plant cell but are very small in an animal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od Vacuole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store’s fo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ractile Vacuole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stores wa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unctions of the Cell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found only in Plant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es a plant strength, support and rigi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W is made of Cellul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609480" y="1525680"/>
            <a:ext cx="3338640" cy="452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505320" y="3886200"/>
            <a:ext cx="380880" cy="5335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643600">
            <a:off x="3199680" y="351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666880" y="1447560"/>
            <a:ext cx="762120" cy="144756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nimal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324480" cy="502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280" y="3505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0481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tubules/Cent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754000">
            <a:off x="6630480" y="1523520"/>
            <a:ext cx="2057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735400">
            <a:off x="5943600" y="12189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nt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1225440"/>
            <a:ext cx="6458040" cy="477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8288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762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3526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514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fferences b/w Plant/Animal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81080" y="1523880"/>
          <a:ext cx="4267440" cy="4621320"/>
        </p:xfrm>
        <a:graphic>
          <a:graphicData uri="http://schemas.openxmlformats.org/drawingml/2006/table">
            <a:tbl>
              <a:tblPr/>
              <a:tblGrid>
                <a:gridCol w="2157480"/>
                <a:gridCol w="2109960"/>
              </a:tblGrid>
              <a:tr h="90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l Wall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l Wall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Vacu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Vacu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ome and Lysosomes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ome and Lysosome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plast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plasts not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bel the Parts of the 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81440" y="990720"/>
            <a:ext cx="5271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The Cell Rap Song 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By Mr Bizzaro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 can find me in the lab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ith a pen and a p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'm the mad scient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t I ain't mad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eckin' out my sco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okin' at some cell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yin' to teach these ki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bout the organelle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kids s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Mr. Biz, what is a cell?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y think it's a phone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 a room at the ja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 I tell ‘em bout the nucle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acting like a brain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tected by a nuclear membr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ic unit of li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it carries 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Cell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ribosom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e so small to be se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y make 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erybody in the cell gettin' prote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the cell membrane to the cell wall (cell wal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cytoplasm y'all (it's cytoplasm y'al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w things in the cytoplasm are m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's water, it's gel, it's jelly, it's j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re's vacuoles all over the pl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oring up the water, food, and wa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e kid's s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Mr. Biz, your rhyme is tight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 mean the one about the building blocks of l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 never thought I could be a st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st by rapping about the E.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this rhyme's so h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at it's a powerh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 call me mitochondr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yo, I'm ou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sma Membra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lasma Membrane is selectively permeable, which means tha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8240" y="38098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vely Regu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at goes into and out of the cell. It is theref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ges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king molecules in)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gestion/Excr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moving waste molecules) from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por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 into and ou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nvolved in maintain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9880" y="1014480"/>
            <a:ext cx="43434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339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opholipids are made up of Phosphates and Fatty Acid Tail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drophilic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water lov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drophobic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water h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62356" b="0"/>
          <a:stretch/>
        </p:blipFill>
        <p:spPr>
          <a:xfrm>
            <a:off x="1143000" y="1752480"/>
            <a:ext cx="24382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pid Bilay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3546000"/>
            <a:ext cx="82296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ell Membrane is made up to two layers of Phospho-Lipids, therefore it’s called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hosophlipid Bi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228600" y="1504800"/>
            <a:ext cx="8458200" cy="2076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077320" y="2133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5328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532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55280" y="24674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72"/>
                </a:solidFill>
                <a:latin typeface="Arial"/>
              </a:rPr>
              <a:t>2 Layers of Lip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lasma Membra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229600" cy="3786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3372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971800"/>
            <a:ext cx="14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3623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 rot="10800000">
            <a:off x="5714640" y="540972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-912960" y="327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914400"/>
            <a:ext cx="82296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066680"/>
            <a:ext cx="87631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PM is made up of Proteins, a Lipid Bilayer, Carbs and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mbedded proteins are receptors, which means that they have a site where another molecule must bind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the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29360" y="2743200"/>
            <a:ext cx="3305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re Complex Picture of the P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Image:Cell membrane detailed diagram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63920"/>
            <a:ext cx="91440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uid Mosaic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urrent model the cell Membrane is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states that there are proteins embedded in two layers of 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tire model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3880" y="3271680"/>
            <a:ext cx="632484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ganel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Tiny structures in cells that perform specialized cellular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ll membra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the outer covering that protects the cell and surrounds the 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the jellylike fluid inside the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444760"/>
            <a:ext cx="320040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7543440" y="20574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001000" y="2743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5238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1600200"/>
            <a:ext cx="1752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36232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ucle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s all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’s activ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controls what is going on in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rom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hol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is the site for Mitos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Cell Divisio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is aka genetic material or hereditary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715000" cy="3002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43400" y="3048120"/>
            <a:ext cx="1828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0002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27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627ff"/>
                </a:solidFill>
                <a:latin typeface="Arial"/>
              </a:rPr>
              <a:t>Nucleo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romos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have 46 Chromosomes total Chromosomes in the Nucleus of every cell (except egg and sperm which have 23 Chromosom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Cells have 23 Pairs of Chromoso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a Chromosome with its Centrom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amount of genetic material to smallest amount of genetic materi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romosom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ucleo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cat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side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ib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485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itochondr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ite for C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lular Respi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P is produced for all Cells and their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lie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ower for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hous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3200400" y="2209320"/>
            <a:ext cx="3049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3716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TP is an Energy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Chloroplas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3810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te fo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syn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nd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lant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not Animal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rolorphy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the green pigment used in phot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the space inside the 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ra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re the dark green bund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7658"/>
          <a:stretch/>
        </p:blipFill>
        <p:spPr>
          <a:xfrm>
            <a:off x="4038480" y="1676520"/>
            <a:ext cx="5105520" cy="417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1447920"/>
            <a:ext cx="4038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59436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841400">
            <a:off x="5181480" y="837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Contains the Most Chlorophy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29200" y="1676520"/>
            <a:ext cx="533520" cy="304560"/>
          </a:xfrm>
          <a:prstGeom prst="line">
            <a:avLst/>
          </a:prstGeom>
          <a:ln w="85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ies For Photosynth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60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hotosynthesis is Autotrophic Nutr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is converted into Chemic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2 + H2O + Sun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ucose +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 Nutrients are converted into Organic Nutrients in the presence of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00"/>
                </a:solidFill>
                <a:latin typeface="Arial"/>
              </a:rPr>
              <a:t>(Inorganic Mater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324468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00"/>
                </a:solidFill>
                <a:latin typeface="Arial"/>
              </a:rPr>
              <a:t>(Organic Mate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34:16Z</dcterms:created>
  <dc:creator>Ela Skrabak</dc:creator>
  <dc:description/>
  <dc:language>en-US</dc:language>
  <cp:lastModifiedBy>Ela Skrabak</cp:lastModifiedBy>
  <dcterms:modified xsi:type="dcterms:W3CDTF">2008-12-08T19:22:33Z</dcterms:modified>
  <cp:revision>78</cp:revision>
  <dc:subject/>
  <dc:title>Slide 1</dc:title>
</cp:coreProperties>
</file>